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6B2-3A7E-40FD-A921-707FC6E7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06A-8B7A-49AA-9B67-2B0B8CB1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E02-A73F-4847-9A9F-16E4B2A6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155-2FC6-42FC-8FCA-8C8EB3C9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E48A-BEB0-44D4-B5AA-49054870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6C68-687B-4DCE-9902-DC7D883F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BDBB-80A2-4258-A44D-8936B58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D1EA-7C52-4E3B-83D9-6C2EF2D9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C4EA-B1A1-4005-B5A2-F5BFF96C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7CD4-5672-4850-8D41-0CA4A39A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C6BB-E7BE-4194-8C84-76BE191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ECE-9501-4B8D-A2B2-DDDFA7B9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AEDA-05B2-4454-AC37-B42DCDA4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000C-C650-488B-BA2B-B24AA091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6CA2-87AC-40A5-8FC8-1310B15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72D9-A0A8-4459-8AE5-96EA4CE2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1CBD-2E26-4976-8356-A8A2B8B3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26F-29AD-478A-BC6D-27E6E933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E16-CC12-4D46-857C-1BB55D6B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BB8-F0A3-4336-A66E-96EE8EC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550-C7A5-419B-80AD-94863392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035-9B98-4BAC-8073-80DF3751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786-2C0C-40E0-B768-CA23565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E63-5F21-4C02-87CC-9C1FEDC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4622-E04C-4018-854E-88FE57AA59DB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7379-D96C-404F-B771-DCC80D9C8987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Squad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Microsoft Excel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list some examples of workbooks with multiple shee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create one to demonstrate on the smartboard or laptop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050" r="34665" b="71305"/>
          <a:stretch/>
        </p:blipFill>
        <p:spPr>
          <a:xfrm>
            <a:off x="1447920" y="1828800"/>
            <a:ext cx="63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will now have 20 minutes to create two separate workbooks and swap information from one to the oth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1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Open Microsoft Excel and create spreadsheet workbooks with the given informa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2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Rename sheets in Workbook 1 and save to My document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3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Copy information from Sheet 1 to Sheet 2 and 3 (Click in grey cell to the left of column A to highlight entire sheet, click on sheet 2, cell A1, click Edit, paste. Click on Sheet 3, cell A1, press En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4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Click on Insert in menu bar, Worksheet, to add another worksheet. Rename new sheet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5: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Transfer all information from first to second workbook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learned to work with multiple workbooks and workshee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we will look at how this skill will be effective in the classroo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re else can we find out how to do different things in Excel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164"/>
                </a:solidFill>
                <a:latin typeface="Arial"/>
              </a:rPr>
              <a:t>Where else can we find out how to do different things in Excel? 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Help Menu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Atomic Learning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12164"/>
                </a:solidFill>
                <a:latin typeface="Arial"/>
              </a:rPr>
              <a:t>What is a workbook?</a:t>
            </a:r>
            <a:endParaRPr b="0" lang="en-US" sz="4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12164"/>
                </a:solidFill>
                <a:latin typeface="Arial"/>
              </a:rPr>
              <a:t>What is a worksheet?</a:t>
            </a:r>
            <a:endParaRPr b="0" lang="en-US" sz="4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12164"/>
                </a:solidFill>
                <a:latin typeface="Arial"/>
              </a:rPr>
              <a:t>How can I work with more than one at the same time?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Using several worksheets in the same workbook.  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Using it to work with the same data in different contexts at the same time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Using more than one workbook at the same time.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might we use the same data to show different outcomes or relationships in a spreadsheet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Workbook vs Worksheet</a:t>
            </a:r>
            <a:br>
              <a:rPr sz="4000"/>
            </a:b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What’s the Difference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4167" t="40096" r="41668" b="11216"/>
          <a:stretch/>
        </p:blipFill>
        <p:spPr>
          <a:xfrm>
            <a:off x="457200" y="1295280"/>
            <a:ext cx="830592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book vs Worksheet</a:t>
            </a:r>
            <a:br>
              <a:rPr sz="4400"/>
            </a:b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What’s the Difference</a:t>
            </a:r>
            <a:endParaRPr b="1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Workbook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Workshee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book vs Worksheet</a:t>
            </a:r>
            <a:br>
              <a:rPr sz="4400"/>
            </a:b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What’s the Difference</a:t>
            </a:r>
            <a:endParaRPr b="1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orkbook contains up to 255 worksheets within the same workboo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dd or remove sheets from a boo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py information from sheet to sheet, or book to boo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Navigating Between Worksheet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trl + PgDn                   next sheet                                       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trl + PgUp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evious sheet        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ab scrolling arrow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on sheet tab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1240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73392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4T10:11:39Z</dcterms:modified>
  <cp:revision>8</cp:revision>
  <dc:subject/>
  <dc:title>Workshop Title</dc:title>
</cp:coreProperties>
</file>